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gif" ContentType="image/gif"/>
  <Override PartName="/ppt/media/image6.png" ContentType="image/png"/>
  <Override PartName="/ppt/media/image3.gif" ContentType="image/gif"/>
  <Override PartName="/ppt/media/APPLAUSE.WAV" ContentType="audio/x-wav"/>
  <Override PartName="/ppt/media/image4.gif" ContentType="image/gif"/>
  <Override PartName="/ppt/media/image8.png" ContentType="image/png"/>
  <Override PartName="/ppt/media/image5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35080"/>
            <a:ext cx="8458200" cy="633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AbcBulletin"/>
              </a:rPr>
              <a:t>Guess the Covered Word</a:t>
            </a:r>
            <a:endParaRPr b="0" lang="en-US" sz="7200" spc="-1" strike="noStrike">
              <a:solidFill>
                <a:srgbClr val="6600cc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792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Spelling Words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Week 20</a:t>
            </a:r>
            <a:endParaRPr b="0" lang="en-US" sz="3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441972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May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I please have a new t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99036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She will put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water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on the pl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495680"/>
            <a:ext cx="1371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4419720"/>
            <a:ext cx="69343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She will put 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water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on the pl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76212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ook at th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s quickly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n we wil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pell the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ogether b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anting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09680" y="2362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w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fi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33"/>
                </a:solidFill>
                <a:latin typeface="AbcPrint"/>
              </a:rPr>
              <a:t>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2096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AbcPrint"/>
              </a:rPr>
              <a:t>m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33720" y="22096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bcPrint"/>
              </a:rPr>
              <a:t>wat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427560" cy="387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cPrint"/>
              </a:rPr>
              <a:t>Mickey says, “You did A-OK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609480"/>
            <a:ext cx="69343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Say the word as the arrow points to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f0000"/>
                </a:solidFill>
                <a:latin typeface="AbcPrint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AbcPrint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9933"/>
                </a:solidFill>
                <a:latin typeface="AbcPrint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00cc"/>
                </a:solidFill>
                <a:latin typeface="AbcPrint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33"/>
                </a:solidFill>
                <a:latin typeface="AbcPrint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3623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20040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0384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876920"/>
            <a:ext cx="1904760" cy="30456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638680"/>
            <a:ext cx="1904760" cy="304920"/>
          </a:xfrm>
          <a:custGeom>
            <a:avLst/>
            <a:gdLst>
              <a:gd name="textAreaLeft" fmla="*/ 297360 w 1904760"/>
              <a:gd name="textAreaRight" fmla="*/ 1666800 w 19047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Which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ay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did the train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464832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543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4572000"/>
            <a:ext cx="7162920" cy="14346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Which </a:t>
            </a:r>
            <a:r>
              <a:rPr b="0" lang="en-US" sz="4400" spc="-1" strike="noStrike">
                <a:solidFill>
                  <a:srgbClr val="3333cc"/>
                </a:solidFill>
                <a:latin typeface="AbcPrint"/>
              </a:rPr>
              <a:t>way</a:t>
            </a:r>
            <a:r>
              <a:rPr b="0" lang="en-US" sz="4400" spc="-1" strike="noStrike">
                <a:solidFill>
                  <a:srgbClr val="33cc33"/>
                </a:solidFill>
                <a:latin typeface="AbcPrint"/>
              </a:rPr>
              <a:t> did the train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543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can’t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find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her b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4343400"/>
            <a:ext cx="1066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4876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343400"/>
            <a:ext cx="716256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The dog can’t 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find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 her b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He will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us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the red penc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34340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4343400"/>
            <a:ext cx="739152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He will </a:t>
            </a:r>
            <a:r>
              <a:rPr b="0" lang="en-US" sz="4800" spc="-1" strike="noStrike">
                <a:solidFill>
                  <a:srgbClr val="3333cc"/>
                </a:solidFill>
                <a:latin typeface="AbcPrint"/>
              </a:rPr>
              <a:t>use</a:t>
            </a: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 the red penc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419720"/>
            <a:ext cx="7086600" cy="155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bcPrint"/>
              </a:rPr>
              <a:t>May</a:t>
            </a:r>
            <a:r>
              <a:rPr b="0" lang="en-US" sz="4800" spc="-1" strike="noStrike">
                <a:solidFill>
                  <a:srgbClr val="9900cc"/>
                </a:solidFill>
                <a:latin typeface="AbcPrint"/>
              </a:rPr>
              <a:t> I please have a new t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419720"/>
            <a:ext cx="12952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99036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9-02-23T01:02:27Z</dcterms:modified>
  <cp:revision>16</cp:revision>
  <dc:subject/>
  <dc:title>Guess the Covered Word</dc:title>
</cp:coreProperties>
</file>